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124D-CFD9-4768-A00D-E9032E8E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C670-B3B0-4819-89D5-4E002F38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01E-A7FD-4060-8B5B-F1DD60C0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98F9-C437-449E-8BF4-0F68DB87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6B99-054D-42BC-8EC2-E5F80A8F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C041-7957-404B-9CAF-CFE9ACAA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4CF2-FCC2-49BF-B394-D6ACDF4B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524B-AA8A-40C9-8DF5-C99CDBB0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B965-96B5-44F4-93D6-4C8C3570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49A6-C5BE-45CF-B1DA-3FBB99DD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ACB4-C412-443A-A669-45AB515D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441-BF74-40FB-8218-2BFB81E9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FF9C-F9B3-4A3E-A0AE-A7EA5834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61AB-E376-4A9A-8D13-48200A62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6D6E-F592-46C6-BF08-64535C74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E04A-1B7D-480F-B9F2-B96D473D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BCF0-C174-4FCE-A5C3-88D78A25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5F6BC-3CC6-456A-BF80-2EB74446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667B0-B85A-4DF1-ADAA-97842FE1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1402E-9B23-488E-B1D2-0EA372A7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F8134-BCC5-416D-8DF1-F0C720F2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41E66-09DE-461B-A69C-13839846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0FD3-20B7-4905-8B4F-E5FFCEB4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FC48A-5FF9-4BEA-B74F-E7BDB9E4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9E608-CBE9-46BF-B074-18081D50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E7788-9502-410C-8779-BF32EBFF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8CBA2-36DC-44B2-BB52-16A01665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C842D-6D7F-4157-A91F-9E9BA5DF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FC22B-1952-4E50-899C-42A1AEEC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D2B5F-ACE7-4AA2-9ABE-5486B09D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4A2AE-D570-4DCE-8DE6-AF7F4AA5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27FAB-CA05-409E-8C1C-4C7498A5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C3F72-7A48-4C9B-9123-EA500A07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350A-764C-42D1-9263-397CBDD7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905A2-81A4-4702-8173-53EE8E58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BBC21-F62C-45B5-A72B-AB9790D9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96C59-72BA-4646-8FB9-57BE1F99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47F58-DEE6-4B59-A11B-F3D94191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DFE76-289B-496F-B5D8-AFDAF5C2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4A6B6-0714-46FC-95A6-4D70DEBE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AF288-8CC2-495F-8108-6CC3313E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90526-C6B4-4054-AA29-0DE55B6B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CE8A5-CCF7-4D23-B697-5DB459FF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8B8A9-6130-4101-9136-79096158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7A38-8573-4526-81B2-5BE8191E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7814D-07C3-4C59-84C0-56EF96A4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AABED-1CBA-4F33-8221-AAEDB7C1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CAF68-D923-43FD-AC05-3CCA94C6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D18F2-64C0-409A-AD3F-94277EB8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91C38-8150-4049-98FB-042258E1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38987-2BDD-4DA4-84DB-0E5BB74E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2DC0A-31EA-4830-AECC-A9D0E4F8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820C1-73A7-4756-87F5-56C29B3A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601A6-DA26-48E4-9F66-C157AD8E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8C5E9-2FB3-4B83-A243-177A0E8E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FEB6-0F74-4D7E-BBC7-4DC581EE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E42A4-6F95-41F2-9AB2-5A279432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E8E6C-10D6-48F1-91FB-C0FB540A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BA380-CA9F-4A03-9581-65F90E29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F9DDD-079E-4239-93AE-04EBF428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01F49-396E-4D7D-8891-1707AD4A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D3304-D132-4F0E-80D3-253403AF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991AC-0508-4418-9C87-C24B9138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16884-5DE0-4115-BCEB-85D2A155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6597A-A961-4FAF-9EE5-39CDBD5B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36C9E-3AA7-4255-BBD0-AF606208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C2A-BF28-459C-9D3F-E10715B9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7E0BD-42D2-4768-B95A-8EE4D5EA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8CAB9-97D9-4ADE-977A-F25DAA2C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2B7CF-17F0-4DDE-A45C-C962994B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9768-DC38-4E56-B7D0-8F167642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5BF-05FE-45F6-AB60-EEDCC03A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C4A7-1BCD-4D5C-9DCA-63F5828248A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36BB-0AFD-485D-A7D0-C0A6B9D2757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352C-EF7F-4366-8FB2-81D1EF34025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7FEA-2B2C-4817-8DFD-05B6C8DFD83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9FD7-5840-40B0-8ADC-053706B127D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F4CD-8B14-40B1-BCE0-87BA8D54FAA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6096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ul Novak, Ohio EP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-7632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mmittee Meetings/Agend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mittee calls on July 17 &amp; Sept 18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gend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st of Mercury Discharg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lined variance procedu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ents on Steam Electric Guidel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view of data on compliance problem discharg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velopment of permit limits for criteria that apply at downstream intak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language for human health temperature criteria.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Streamlined, Coordinated Mercury Variance Procedure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mittee has been working on procedure for streamlined vari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riginally looked at 30 ug/L as threshold for receiving variance based on IDEM proces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0 ug/L came from Michigan which they identified as having come from Maine dat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ce then Michigan reduced threshold from 30ug/L to 10ug/L, and now currently use site-specific approach which typically results in less than 10 ug/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ossible Approach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 low-level mercury monitoring to determine reasonable potent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Hg discharge &lt; 12 ng/L as annual average (criterion is 12 ng/L) and an acceptable pollutant minimization plan has been submitted, then a streamlined variance will be gra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iance schedule: 12 ng/L limit effective at end of perm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ther conditions &amp; procedures remain as in the currently adopted proced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approach in line with OE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ist of Mercury Discharg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19 discharges with mercury monitoring requiremen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1 +/- discharges with average concentration &lt;12 ug/L total mercur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has been updated and verifi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Comments Submitted on EPA’s Steam Electric Guideline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move options involving BPJ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 playing field among sta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nimizes permit appe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courage EPA to set standards for FGD waste stre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 for utilization of trading programs to achieve nutrient reduc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pport proposed arsenic lim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ntinuing Issu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752120"/>
            <a:ext cx="84582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mitting of discharges for TDS &amp; Ammonia that apply at downstream intak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ork with Power industry on development of implementation language for human health temperature criter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EC Conside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ssible direction on streamlined variance proced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9:29:41Z</dcterms:created>
  <dc:creator>jason</dc:creator>
  <dc:description/>
  <dc:language>en-US</dc:language>
  <cp:lastModifiedBy>jklear</cp:lastModifiedBy>
  <dcterms:modified xsi:type="dcterms:W3CDTF">2013-10-15T15:12:54Z</dcterms:modified>
  <cp:revision>106</cp:revision>
  <dc:subject/>
  <dc:title>Report of the NPDES Subcommittee</dc:title>
</cp:coreProperties>
</file>